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D7D-A8A1-4A27-AF88-DD684060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F6E-68C4-43A3-B5D1-E5069A56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F99-1D4D-458B-95AA-8151ABDB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3B4-A3D5-465A-94D4-79CA2B85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90FB-4E64-4AA1-A211-18F417EF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E59B-7E70-4AF6-A241-4BCA3F05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9387-2B19-4C88-905F-FA215F8E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1494-3E5C-4700-9E59-A069B907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291C-7A7D-4FF0-8FCA-066CBC4F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0832-9F6A-412F-9701-C99AB588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CC45-3FC1-4713-A7A2-DE4EC8C1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778-B9A3-425B-9586-00F8760B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9370-85AF-472F-B8C8-19D4F968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CE40-4343-4203-9A6F-EE224F24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790E-7832-4E02-8601-E6D5C6D5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2587-FD79-4776-B44B-B7D53A42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E966-D33B-4E36-8098-DF472181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F5F-5DD4-4DBE-BFE8-7F55AF85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B1F-2C30-4389-9BCE-29C834F4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53D-7B7E-4CD6-893E-4A9C0B68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8CD-2661-4023-88B7-AAD38C2D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F23-5696-4C71-A573-966AEB81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AB3-C45A-4C8B-9779-CDE7621D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B71-DFB6-4EEC-9205-771396CC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3E2F-2AD9-458F-9277-2AC632A1F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D65F-C73B-4E88-BE9D-3D9DAA3F0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ctober R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olsheviks seize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2438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09680" y="5867280"/>
            <a:ext cx="480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y Mr Osborne</a:t>
            </a:r>
            <a:br>
              <a:rPr sz="2000"/>
            </a:b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choolHistory.co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e Bolsheviks take pow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676520"/>
            <a:ext cx="8763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lsheviks took control of the government in an almost bloodless coup between Oct 24 and 26 19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3048120"/>
            <a:ext cx="21337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dec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2590920"/>
            <a:ext cx="2743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in ends the war sends Trotsky to negotiate with Germany. Treaty of Brest-Litvo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548640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s the CH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4191120"/>
            <a:ext cx="1828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ies put under control of workers 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438280"/>
            <a:ext cx="243864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taken from Church, Nobility etc and given to peasants. Land not taken over by the State (y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257800"/>
            <a:ext cx="266688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non -Bolshevik papers were b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ime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ch - Petrograd Soviet issues Order No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ril - Lenin returns issues April 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ne -  Failure of the June Offen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ly -  The July Days - Lenin fle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g - Kornilov Revo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pt - Bolsheviks win control of the Sovi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 - Trotsky become chairman of Soviet. Lenin retu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 24 - 26 Bolshevik r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s facing the Provisional Govern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- Peasants demand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er - The workers in the cities were demanding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- fight on or make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aries - how to stop the spread of their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my - needed loyalty of th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ponse of the Govern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overnment promised land reforms but gave no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overnment could not guarantee food supplies as the Soviets controlled rail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overnment promised political reform in an attempt to stop revolutionaries. They failed to take any positive a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oops in Petrograd were now under the control of the Soviet and refused to obey the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sants angry with the Government started to seiz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joined the Bolshevi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lsheviks and other groups gathere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was losing control to the Petrograd Sov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nin return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in return from Switzerland with German assistance and issues h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ril 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ll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throw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to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iets to form new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given to pea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o control factories and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304920"/>
            <a:ext cx="1981440" cy="1143000"/>
          </a:xfrm>
          <a:prstGeom prst="wedgeRoundRectCallout">
            <a:avLst>
              <a:gd name="adj1" fmla="val -48796"/>
              <a:gd name="adj2" fmla="val 7500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we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vi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80880"/>
            <a:ext cx="22860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352680" y="2133720"/>
            <a:ext cx="2362320" cy="274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uly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143000"/>
            <a:ext cx="2438280" cy="451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ilure of the June Offensive led to widespread muti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lsheviks supported but did not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1295280"/>
            <a:ext cx="27432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ots qu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sheviks accused of being German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shevik leaders arrested . Lenin escapes to Fin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sheviks weakened but seen as main revolutionar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505320" y="1600200"/>
            <a:ext cx="2514600" cy="274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ornilov Re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990720"/>
            <a:ext cx="2819520" cy="50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1917 General Kornilov attempts a c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nsky is forced to ask the Bolsheviks for help. Bolshevik leaders are released and the Red Guard is given weap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sheviks defeat Korni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1066680"/>
            <a:ext cx="2895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sheviks seen as her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rity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me a well armed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y were the Bolsheviks successful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828800"/>
            <a:ext cx="28195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e of Len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ed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Prav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ed capture and organised the c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r slogans to raise moral and public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1905120"/>
            <a:ext cx="2514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e of Trot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ed Bolsheviks after July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minded the events of the c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military leader organised the Red Gu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905120"/>
            <a:ext cx="19051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s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nsky new of Trotsky's plan but had lost support of the army and so was help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0-24T02:15:44Z</dcterms:modified>
  <cp:revision>3</cp:revision>
  <dc:subject/>
  <dc:title>The October Revolution</dc:title>
</cp:coreProperties>
</file>